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2DD-3BC7-4B52-A677-30527598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509-0ECD-47F2-94D7-03E74478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E5869-8ABD-4874-9CF0-F0786092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8E0F0-4795-44A7-A78C-F5715D40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22DFF-6A0D-4BF3-A11B-A468DF95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98B48-75C3-47E1-A5A8-C5D9E58A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43BD7-B2EF-45A9-9A3D-60A00B0D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DD60B-F390-4EA7-8CF1-C84894D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ADA6A-EA00-4983-A064-5B0C482A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C6E05-401D-4BAA-8E40-6965878D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00C98-761E-49A1-B3E4-75ABC533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83CDF-23B3-4382-8896-7C7AFC2B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14B-3F1C-49C3-8909-6D7FA7E0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1D286-2055-4309-88B7-47170D24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8760B-E98D-49BC-A231-E7DED903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D6154-E77C-4005-9097-76F250AC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AD254-26FA-4B4B-A859-F0FD1994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FEABF-BF72-4F52-ABBD-7719A71C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05433-7109-4DB4-8F3E-0492304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B44A2-7B31-4C8C-A632-8F971A7F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A97F7-177B-4BAF-B0B3-6F94131D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30B30-D64E-4C25-ACDB-467A25D5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164D8-7C23-4CD2-B83F-FB557F3C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67F-2BEC-463F-867C-0FA52CA2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6DDF2-AE0E-4830-AF28-170B852F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4C149-206C-4F44-9FE8-FCEB91B0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6D367-62E3-47ED-96FC-9D5F0D9E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77A00-7096-482E-8EDB-A66E64C8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44B62-B33E-43D1-9F31-21DC82B1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F44F1-D23D-4C06-A53E-D1566E24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6221B-A500-452B-A9C9-850F6DC6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C0BD5-96A6-4AFC-B3FB-D1CE9CEB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8FB4E-FDBC-4281-BFF4-5C4C16A3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3077E-F3F2-48F8-9675-1FDF777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4CBC-489F-475C-9487-079D1303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B3490-7873-4358-B62C-85155736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CC070-0BF5-403B-9F8D-A881852F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64616-2320-408F-AE73-8539C57E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1D70D-7E3F-4A5F-A26D-7122D721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112F1-7A48-44E2-A01A-85F34C72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20419-A58A-4E68-9D14-E5D2314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5C85A-3A77-47D9-91B1-DF395492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F8D99-5755-4A33-A72D-86D6B73A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9C6DF-B6AC-4F1E-93D2-ACB64E9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5CB6C-4E80-426E-B305-6828ACB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0165-0427-421F-8CCE-B7E20CEA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2CA1D-6DE2-48A0-BCD2-27876D1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3316A-C5EB-4505-A5D1-9818E39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75979-3A21-4E11-9531-D735CA92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DB01A-CB7E-4113-997F-9B42AD81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056B7-F36F-4DF0-866E-6167C406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7FCD-4F2F-48AE-AE35-CF7D76A0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9F71-8AEB-45BB-A4A3-B9D9C8B6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F615-CD8D-424E-8289-E4A6D637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10BA-449F-42ED-BADA-31996C4E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4303-DD06-400B-97F5-F0C36BD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7F8-A3C6-426A-8C08-EE6D4864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70DB-7F84-4D3F-8850-35239AA2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4246-8FAC-43B6-9214-35CB64DC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C541-77EB-457C-BDCD-977762F7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0F00-6D9A-45D0-BB83-861E7BDB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11BF-5E48-4F46-A132-C8EDF8BA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DB74-525A-4E19-945B-1F9A71A6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3897-91FA-4D43-AD8E-4B9DA88B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33C0-7FA4-4EB9-9451-FDAAD06E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7039-233D-4065-B5FA-54667ACE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CBFB-ACF1-4DD1-8D54-725B63BE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E56-4E82-4475-B2FC-524FC91E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D11F-3B18-4CC8-B1C2-1380A10C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68AB-7B22-4FB0-82B8-9584942E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37AC-B7F7-4929-AC74-E4828953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9EBA-62E5-4989-9B82-87E8030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46D6-6B72-4426-8172-6ACEE73F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54B6-EF69-4A90-B3B4-3277E5EB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A76B-A0C5-4F1C-901F-09EA3EE1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D757-D4BC-4543-BB23-F648F4CC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A68C-18B8-46D6-B966-603F8581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F9421-A655-4440-A367-8B60532F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93D-A135-40C1-A819-2DCF3368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4284-40A1-415B-8FC0-3E8ECCB9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9485-0D10-49EA-8F40-ED13A7D1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DDB97-2370-47C0-B853-58E23DFD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9C37-7556-4499-8E8F-6979D9DD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F1C8-7E56-4051-87EC-2202949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6B12-7248-4A28-9EBB-E5C3670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3EF6-1451-4EB8-8AE6-A3E30F9D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A8E5D-678D-43D1-A1B9-A709D6B9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3337-B892-4DBE-A6A9-82D08D18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6664D-A890-4F29-8730-91838399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D89-0B59-4180-8597-6652041F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6E7A-6352-4DB1-988A-08E41364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885AD-C463-4E36-A6F4-C855C3DD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8680-6750-4C0A-B1BC-54070FC1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F6A18-BB4C-4F89-B02B-6870BAC7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77B05-F992-486E-AD03-CB73A157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D6A6C-6ED2-4186-91DF-C5AAE4E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60757-5826-41CF-8E62-1D7232E9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E96A-4CDA-4963-997D-3AD86BB3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6500-24FC-430E-9E84-3D10B3A8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F3E8E-02B3-433A-A24B-2C0F3B6A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0D8-0560-4DA2-B3C0-BA14B420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CEB39-2066-4D1E-8453-73EC5D36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0F4F-067B-465B-AC38-20EE6DF2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F3AB-E14E-4275-84C4-B90429E3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AE40-4687-4123-8CFC-AD59D3E3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C2A5E-9120-4068-A66B-6518A8E3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001E8-F8B4-4DB0-9905-A052AE89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D6349-9F05-41F5-8E89-E7E7449E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29701-DE8C-4346-BBD9-9EF817D9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397C8-AF54-44F6-A3BC-2067875F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1BD5C-2BF6-4FC4-9CB6-765EF1E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E6B-07EB-47E2-8F56-7B1501B3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23A54-57D5-4BC4-A887-F64F9CF3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10058-C426-40C7-A500-0511E581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D10E-5C00-4149-9CB2-0C55AEE5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FAE83-02E7-42FA-BFE4-50ABABC5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9AA35-BABD-4269-833A-A30F10B9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02E2B-4EF5-4B90-962D-046D92F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1641E-095B-4960-BA3F-37B7452F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2C195-6A27-4A87-A5B8-0AA1EC52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604A9-CFC2-4071-BDBF-3F770B98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A936-B573-4E6F-A994-6D2525E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0BB-AE03-4F31-B9E8-19B8F2E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FD52-8219-447A-91A5-E47FE18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A5F4-1EC3-495A-BECA-7941941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36E28-B1BF-43D8-8952-3DA57D6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5DB32-C557-49BF-8F38-D540D79E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977F6-47C1-46CA-A1D6-6B3B3878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FED49-E368-4C76-A4D0-A4B8AB1D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3DD14-EB56-4987-83E1-4D979E85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6BB9D-06A5-4B88-8E24-E04440F5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354B-6BD3-4A5F-8C50-CB854933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F0366-6755-468B-86DC-5F475710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B63-554E-4D47-A185-3AF4605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D511D-6F05-4FA0-98B6-D24FA208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E0869-0CD7-4FE3-8DC2-4463136A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149EC-FDC5-4E56-9A02-7CDF64A7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11636-3CB7-44CF-B644-F7A9C99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D1C1C-1875-4024-BC8E-DDF4BED5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E7802-6206-4BEE-A37C-308F7244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57FDA-BE70-4ACE-8D27-79508E8F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FD5B9-3177-4F79-B890-C05363C9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53102-BBF6-4C8A-9881-B4A0331A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DCF55-2795-41A8-B08B-1357E60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8772-7D17-438C-B169-F7773193F2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E16D-8E69-4D87-BFDF-36F2D179E5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42CF-A9DD-41FA-A861-C6DCFB12C8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DE47-69C1-4AB8-9E4E-E15EF35D74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9C7F-CC65-45DB-808B-5AC2C1EF0F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E8B5-D41A-4BD0-8587-9390AA17DB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9DF8-3C6C-4097-BEB0-6822698F81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C138-E67F-45BD-8931-94E5F06693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17EA-FD81-4D6A-9EB8-4EA8AAD0CE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C0BE-4F30-4415-922C-44AD56EEF9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8F8D-BB2B-44D9-B9CD-AAFF4833DE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9A74-9DF1-436C-BB97-7FE9F6209A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1 Ovečkou, že Božou s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večkou, že Božou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ma teší, nocou, d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môj Pastier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 vždy hlas jeho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o moje blaho db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arosť o mňa stále m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dí k pastvám zelen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vodám tichým, príje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ceste ust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plecia ma berie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uje ma, dobre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ba jemu patr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je Pastier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al za mňa život s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dá ma, keď zablúdi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om bol opäť s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mojím zachránc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večkou ja jeho so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56:38Z</dcterms:modified>
  <cp:revision>85</cp:revision>
  <dc:subject/>
  <dc:title>Je veľký náš Pán, on slávy je Kráľ Nech do všetkých strán  spev vrúcnych znie chvál.</dc:title>
</cp:coreProperties>
</file>